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175BB-BB4C-43F3-949A-2E43F7CA0A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6948D-6A0C-4C58-B163-457CFE7803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E24CF-D01D-48D9-A6ED-3C545A9E50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FE8AE-4458-48FC-926C-92F699F746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90373-241B-4F29-AFDC-ACE2D078C3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ED934-3126-4D63-9F17-A3CC90A42F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95D2E-11D4-4E60-AB93-F33CA223A9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888F0-F652-42B1-BC93-E0F2E16766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5E754-96B1-47E4-82A8-54AFE2BE3D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5946B-99C7-4E5E-BDF7-32C4691528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E7AA1-1414-4B48-AB3D-376A10AEDB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DA395-01CD-4BC3-B643-945BBA2259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F55EE-38BF-49DD-A08B-A146678843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9AF45-E31C-46BB-A395-9979131D7F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01A92-FC52-4F22-99DB-2B6174E1CD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2EBD5-71C2-442D-B3B4-FFB5F35C65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FAD01-276C-4218-9426-3DDFDFF2515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8988-00F7-4174-956D-286AC6AFD2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E062-D2AC-42AB-9C40-CA1768D26E5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C274-0577-483F-A2A6-5D2BBBB84A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57C6-1A68-4AC3-BB2B-C947C0C383B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A1F3-7989-4621-B781-8DE74F7420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741C2-726B-4BAC-8A91-5F8CC9DED3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0283-E744-4B89-BAA0-16422AA837E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C5D9-0386-46AC-8523-317D3D470A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D8D0-769A-43BC-825D-BC47D830907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B2FB-79F0-41B8-BFF8-6A7FAD9D9AC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753D-8182-4700-9D90-926C0DDC5B6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3EBB-5723-4A09-8DE8-263962C80A8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82EB-EAC5-4DE9-88D8-0CED7177553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4B626-1197-473F-AC8A-A32496E95B5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28493-F051-4DAB-ADB6-04B0900876E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9FF5E-2560-4A01-84B3-EE37A8DBA3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574E8-2589-493F-A7C5-E59F93A1D30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BEA5D-17E8-4CA6-A7BF-F73B7DF3B3C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8D229-0085-4400-9578-EEF4AD211E8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FB85A-9D9A-4920-AAC8-7FF115C3336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DABE9-B49B-4F1B-BDED-F2C45625F50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0F126-C16D-4D81-9DE8-67A99A63BA7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A27E5-2EED-4318-9FF7-733A9B72472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E65EA-C515-4431-A627-973460DCBCC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3B7DD-85AB-4469-9AEE-440689772B6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FEF52-2EED-43D3-90FA-7D57DAEDDE4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7D091-CC83-4B98-8901-883B20BD95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745FB-4280-4C39-8EA7-1EFBB46DFC6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76094-A4B2-42C5-8772-9549A5A2306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CCCCA-6ACB-41BA-AA01-E57918202E8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3B567-E3AC-4BC1-A584-C73223430BF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32463-6C55-43F6-8F13-FC694CCD847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8B896-7580-4F46-82D4-51DA635A27B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0D99D-BDF6-48F9-9283-9433DFB8AD9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E0BE4-05E8-44AC-AFE0-92FBC653A8B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CE471-578F-4542-B7C1-BB2AE4CE36F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3973B-FCFF-4542-8387-F2E05020629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B0482-2187-4181-B4A4-785FBC2CC9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3CF02-74E8-4F48-AAF4-74AC813BD9C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7F4AB-CEA7-4235-B54B-E22552B9C6B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7FF3-1116-46CA-856A-86D10C7D36A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026A-C032-45AD-907A-569F2DF5D18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A9D0-720D-4380-B87E-61B68625D94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91AF-9435-4DD3-8267-F73E738B6C4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EF06-29B4-436C-817C-91151AB0632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4FD5-BACD-4251-BD6A-A7697F9F487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C906-F6C1-49B4-A8C3-451642D1F73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A1C6-FDFB-445B-B5F2-B3269F3F3AE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39FF-2A2F-405B-9E09-96D50FDA11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8E585-BAB0-414E-AA2B-7F93AFADBC2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DAB4-23FE-4B66-9671-57F9477DCAD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4503-DA84-4792-8B6A-800F844D8E4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F8E6-4E27-4A62-8337-214588E41CC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C362F9-2F88-4A4E-BBF5-4C42E76B450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D6FD5B-8920-451F-8794-0C40A0A82FB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C1CB7B-FA02-4743-8DF7-C20D208B438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D020DE-5004-4F11-A062-D0216136F18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FD5A5B-D9DC-4C53-B937-E379287C9D1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7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B3618C-2516-4B56-876A-915C86F0157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3E26DB-70EE-486B-BDE2-E12C2374D3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D0F1B-715A-4FC8-B050-FEB4361E87F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E750F3-372E-424F-B9F0-4A9A6805E5C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BCDCA6-CB22-4678-83C1-6DC2EC34FE6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365F61-1734-4306-B1F3-65FDFBD5D74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28976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BD3474-E846-47AB-B9F4-5E95DE02AAC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289760"/>
            <a:ext cx="264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15B1C3-11B3-4EE6-859F-0986CA8B6A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89760"/>
            <a:ext cx="8229600" cy="25646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5236B-6FD9-4D93-8D88-1E69F837D5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03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064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44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9288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57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5740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5740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12000" y="6532560"/>
            <a:ext cx="228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  <a:ea typeface="MS P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B96D-2BF0-4A60-B766-6809CCF99ABF}" type="slidenum">
              <a:rPr b="0" lang="en-U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0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1" name="Picture 3" descr=""/>
          <p:cNvPicPr/>
          <p:nvPr/>
        </p:nvPicPr>
        <p:blipFill>
          <a:blip r:embed="rId3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5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0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03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4064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644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9288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157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15740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15740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8712000" y="6532560"/>
            <a:ext cx="228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Narrow"/>
                <a:ea typeface="MS P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8BCA-1EBC-4AEE-A6B9-92B2039BF56A}" type="slidenum">
              <a:rPr b="0" lang="en-US" sz="1000" spc="-1" strike="noStrike">
                <a:solidFill>
                  <a:srgbClr val="ffffff"/>
                </a:solidFill>
                <a:latin typeface="Arial Narrow"/>
                <a:ea typeface="MS PGothic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5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0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03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4064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644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9288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157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15740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15740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8712000" y="6532560"/>
            <a:ext cx="228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Narrow"/>
                <a:ea typeface="MS P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3C5B-CA98-4A97-BA6F-BB88D544C2E8}" type="slidenum">
              <a:rPr b="0" lang="en-US" sz="1000" spc="-1" strike="noStrike">
                <a:solidFill>
                  <a:srgbClr val="ffffff"/>
                </a:solidFill>
                <a:latin typeface="Arial Narrow"/>
                <a:ea typeface="MS PGothic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03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064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44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9288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57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5740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5740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4"/>
          </p:nvPr>
        </p:nvSpPr>
        <p:spPr>
          <a:xfrm>
            <a:off x="8712000" y="6532560"/>
            <a:ext cx="228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  <a:ea typeface="MS P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38E4-6022-497C-A148-C272AFD00349}" type="slidenum">
              <a:rPr b="0" lang="en-U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7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3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0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03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4064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644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9288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157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15740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15740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5"/>
          </p:nvPr>
        </p:nvSpPr>
        <p:spPr>
          <a:xfrm>
            <a:off x="8712000" y="6532560"/>
            <a:ext cx="228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Narrow"/>
                <a:ea typeface="MS P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1102-F0AD-492F-A89D-344011450078}" type="slidenum">
              <a:rPr b="0" lang="en-US" sz="1000" spc="-1" strike="noStrike">
                <a:solidFill>
                  <a:srgbClr val="ffffff"/>
                </a:solidFill>
                <a:latin typeface="Arial Narrow"/>
                <a:ea typeface="MS PGothic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03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064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44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9288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157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15740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15740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6"/>
          </p:nvPr>
        </p:nvSpPr>
        <p:spPr>
          <a:xfrm>
            <a:off x="8712000" y="6532560"/>
            <a:ext cx="228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  <a:ea typeface="MS P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2323-A2BF-43B8-A859-D7A0E1B94C8B}" type="slidenum">
              <a:rPr b="0" lang="en-U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9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3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52" name="AutoShape 5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2556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10960"/>
            <a:ext cx="822960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0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0312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4064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644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9288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157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15740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157400" indent="-228600">
              <a:spcBef>
                <a:spcPts val="400"/>
              </a:spcBef>
              <a:buClr>
                <a:srgbClr val="eaeae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8712000" y="6532560"/>
            <a:ext cx="228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Narrow"/>
                <a:ea typeface="MS P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79B7-6306-42AE-8F35-B4E60DE31405}" type="slidenum">
              <a:rPr b="0" lang="en-US" sz="1000" spc="-1" strike="noStrike">
                <a:solidFill>
                  <a:srgbClr val="ffffff"/>
                </a:solidFill>
                <a:latin typeface="Arial Narrow"/>
                <a:ea typeface="MS PGothic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94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714240" y="500040"/>
            <a:ext cx="7772400" cy="461016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407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7a8f"/>
                </a:solidFill>
                <a:latin typeface="Arial Black"/>
              </a:rPr>
              <a:t>METODOLOGIAS ATIVA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Italic"/>
              </a:rPr>
              <a:t>Acacia Zeneida Kuenz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Italic"/>
              </a:rPr>
              <a:t>Dra. em Educação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078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2b4a76"/>
                </a:solidFill>
                <a:uFillTx/>
                <a:latin typeface="Lucida Sans Unicode"/>
              </a:rPr>
              <a:t>acaciak4@gmail.com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48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49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7a8f"/>
                </a:solidFill>
                <a:latin typeface="Arial Bold"/>
              </a:rPr>
              <a:t>Por que usar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</a:rPr>
              <a:t>Concepção de Método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xtualizar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ticular teoria e prática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ticular parte e totalidade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disciplinarizar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tivar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gnificar e reter a aprendizagem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inar quando é necessário simula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7a8f"/>
                </a:solidFill>
                <a:latin typeface="Arial Bold"/>
              </a:rPr>
              <a:t>Atende ao Projeto Pedagógico da Escola Judicia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03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3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3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31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7a8f"/>
                </a:solidFill>
                <a:latin typeface="Arial Black"/>
                <a:ea typeface="Arial Black"/>
              </a:rPr>
              <a:t>Modelo mental: plano de curs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8740800" y="6621120"/>
            <a:ext cx="19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b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11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56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35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914400" y="85716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 Bold"/>
              </a:rPr>
              <a:t>Que problema da prática o curso pretende enfrentar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 Bold"/>
              </a:rPr>
              <a:t>JUSTIFICATIV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crição  do problema da prática ou de desempenho existente ou que venha a existir, que justifica a oferta do curso; o texto deve ser objetivo, apontando o problema que se pretende resolver ou a prática que se pretende mudar com o curs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61" name="Picture 7" descr=""/>
          <p:cNvPicPr/>
          <p:nvPr/>
        </p:nvPicPr>
        <p:blipFill>
          <a:blip r:embed="rId3"/>
          <a:stretch/>
        </p:blipFill>
        <p:spPr>
          <a:xfrm>
            <a:off x="1060560" y="398520"/>
            <a:ext cx="778500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3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35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914400" y="85716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 Bold"/>
              </a:rPr>
              <a:t>Que competências  desenvolver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 Bold"/>
              </a:rPr>
              <a:t>(objetivos específico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digir relatórios conclusivo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rar diversas alternativas para solucionar conflito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licar técnicas de construção de soluçõe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digir acordo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9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35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914400" y="85716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 Bold"/>
              </a:rPr>
              <a:t>Qual a metodologia mais adequada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ratégias de ensino que serão utilizadas, priorizando métodos ativo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522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rão selecionadas a partir das competências que se pretende desenvolver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5568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licar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5568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isar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5568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igir decisões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5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old"/>
              </a:rPr>
              <a:t>Metodologia: roteiro básic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old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Arial Bold"/>
              </a:rPr>
              <a:t>Problematiza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presentar situações práticas de trabalho, estimuladoras do trabalho intelectual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 Bold"/>
              </a:rPr>
              <a:t>Apresentar a fundamentação teórica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0820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ndo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08200" indent="-22860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ponibilizando material variado para consulta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08200" indent="-22860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cando fontes: livros, sit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1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82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755640" y="18900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 fontScale="88000"/>
          </a:bodyPr>
          <a:p>
            <a:pPr marL="572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72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old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 Bold"/>
              </a:rPr>
              <a:t>Metodologia: roteiro básic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72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724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 Bold"/>
              </a:rPr>
              <a:t>Propor atividade que leve o aluno ao protagonismo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72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9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Práticas que estimulem a criatividade na busca de soluções originais e diversificadas que permitam o exercício da capacidade de decidir a partir da identificação de consequências possíveis que envolvam as dimensões cognitiva, ética e política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9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9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criação da solução tendo como ponto de partida e  ponto de chegada a ação jurisdicional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9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9304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 Bold"/>
              </a:rPr>
              <a:t>Sistematiza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9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alização e síntes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572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2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7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88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755640" y="18900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Arial Bold"/>
              </a:rPr>
              <a:t>A escolha da estratégi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e competências quero desenvolver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em são meus alunos?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e conhecimentos prévios têm?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l a natureza do conteúdo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e tempo tenho disponível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al é o espaço físico/equipamentos disponíveisl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ue experiência didática tenho?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old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3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  <a:ea typeface="Arial Black"/>
              </a:rPr>
              <a:t>Sugestõe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99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00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 Bold"/>
              </a:rPr>
              <a:t>Estudos de cas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atos de situações ocorridas no mundo real, apresentadas a estudantes com a finalidade de ensinar, preparando-os para a prática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volvem uma decisão, um desafio, uma oportunidade, um problema ou uma questão que um profissional tem que resolver em uma organização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 Bold"/>
              </a:rPr>
              <a:t>Estudos de cas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ituem </a:t>
            </a:r>
            <a:r>
              <a:rPr b="0" lang="en-US" sz="2400" spc="-1" strike="noStrike">
                <a:solidFill>
                  <a:srgbClr val="3366ff"/>
                </a:solidFill>
                <a:latin typeface="Arial Bold"/>
              </a:rPr>
              <a:t>u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todologia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00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  <a:ea typeface="Arial"/>
              </a:rPr>
              <a:t>Que competências queremos desenvolver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27a8f"/>
                </a:solidFill>
                <a:latin typeface="Arial Bold"/>
              </a:rPr>
              <a:t>específicas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– competências relativas ao saber fazer; técnica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27a8f"/>
                </a:solidFill>
                <a:latin typeface="Arial Bold"/>
              </a:rPr>
              <a:t>cognitivas complexas</a:t>
            </a:r>
            <a:r>
              <a:rPr b="1" lang="en-US" sz="2700" spc="-1" strike="noStrike">
                <a:solidFill>
                  <a:srgbClr val="227a8f"/>
                </a:solidFill>
                <a:latin typeface="Arial"/>
                <a:ea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– operações mentais utilizadas para estabelecer relações com e entre os objetos, situações, fenômenos e pessoas  que deseja conhecer; saber pensar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27a8f"/>
                </a:solidFill>
                <a:latin typeface="Arial"/>
                <a:ea typeface="Arial"/>
              </a:rPr>
              <a:t>comportamentais –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combinam  comportamento, a cultura e a identidade,vontade,engajamento e motivação; desenvolvem-se nos espaços de interação e de trocas; querer faz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05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06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 Bold"/>
              </a:rPr>
              <a:t>Estudos de cas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old"/>
              </a:rPr>
              <a:t>Redação das notas de Ensino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7800" indent="-22860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</a:rPr>
              <a:t>Apresentação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7800" indent="-22860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</a:rPr>
              <a:t>Objetivos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7800" indent="-22860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7800" indent="-22860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</a:rPr>
              <a:t>Questões para estudo: perguntas a responder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47800" indent="-228600">
              <a:lnSpc>
                <a:spcPct val="90000"/>
              </a:lnSpc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</a:rPr>
              <a:t>Referências básica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1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12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 Bold"/>
              </a:rPr>
              <a:t>Word Caf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Café Diálogo é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m </a:t>
            </a:r>
            <a:r>
              <a:rPr b="0" lang="en-US" sz="2400" spc="-1" strike="noStrike">
                <a:solidFill>
                  <a:srgbClr val="000000"/>
                </a:solidFill>
                <a:latin typeface="Arial Italic"/>
              </a:rPr>
              <a:t>métod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 fácil utilização para a criação de uma rede viva de diálogo colaborativo sobre perguntas relevantes a serviço de assuntos reais do dia- dia, sejam da vida ou do trabalho; permite a participação de públicos numeroso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 participantes distribuem-se por mesas arrumadas como se fossem para um café, em número de 5 a 8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ada espaço de tempo, os participantes mudam de mesa, permanecendo um único membro, o anfitrião, ou coordenador (20 minutos)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 cada mesa há uma pergunta ou tema de discussão diferente e instigante; a qualidade das perguntas é fundament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7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18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 Bold"/>
              </a:rPr>
              <a:t>Word Caf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84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cada rodada, o coordenador apresenta aos  novos participantes o que foi discutido pelo grupo anterior, que será o ponto de partida para a nova rodada; findo o tempo, os participantes trocam de mesa novamente, sempre buscando uma mesa por onde não tenha passado e se possível, novos parceiros (o grupo não se desloca como um todo; devem ser buscadas novas combinações)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84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organizar papéis coloridos, lápis, canetinhas, flipchat, e estimular os participantes a rabiscar suas idéias; o coordenador sistematiza as idéias (notebook?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84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disponibilizar lanche, se possível nas mesa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84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a comunicação dos resultados pode ser em grande grupo, ou feita pelos relatore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843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o docente faz a síntese fin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3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424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8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 Bold"/>
              </a:rPr>
              <a:t>Mapas conceitua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pas conceituais são diagramas indicando 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</a:rPr>
              <a:t>relações entre conceit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ou entre palavras que usamos para representar conceito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 são diagramas de significados, de relações significativas; de hierarquias conceituais, se for o caso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mapeamento conceitual é uma técnica muito flexível e pode ser usada em diversas situações, para diferentes finalidades: técnica didática, recurso de aprendizagem, meio de avaliação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maptool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464646"/>
                </a:solidFill>
                <a:latin typeface="ヒラギノ角ゴ ProN W3"/>
              </a:rPr>
              <a:t>	</a:t>
            </a:r>
            <a:r>
              <a:rPr b="0" lang="en-US" sz="4100" spc="-1" strike="noStrike">
                <a:solidFill>
                  <a:srgbClr val="3366ff"/>
                </a:solidFill>
                <a:latin typeface="Arial Bold"/>
                <a:ea typeface="Arial Bold"/>
              </a:rPr>
              <a:t>Painel integrado</a:t>
            </a: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03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Arial Bold"/>
              </a:rPr>
              <a:t>1a. Etap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am-se  grupos com o mesmo número de participantes; numerar cada participante; cada grupo faz a discussão do tema proposto, que pode ser o mesmo ou diferente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03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Arial Bold"/>
              </a:rPr>
              <a:t>2a. Etap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10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am-se novos grupo com participantes de números iguais (todos os n 1 formam um grupo; todos os n 2 e assim sucessivamente); será escolhido um coordenador e um relator para cada grupo; cada participante apresentará o resultado da discussão feita pelo seu grupo na 1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ª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etapa e abre discussão com os demais; assim, todos participam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0312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Arial Bold"/>
              </a:rPr>
              <a:t>Síntese pelo docen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8740800" y="6621120"/>
            <a:ext cx="19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b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24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464646"/>
                </a:solidFill>
                <a:latin typeface="ヒラギノ角ゴ ProN W3"/>
              </a:rPr>
              <a:t>	</a:t>
            </a:r>
            <a:r>
              <a:rPr b="0" lang="en-US" sz="4100" spc="-1" strike="noStrike">
                <a:solidFill>
                  <a:srgbClr val="3366ff"/>
                </a:solidFill>
                <a:latin typeface="Arial Bold"/>
              </a:rPr>
              <a:t>Design thinking</a:t>
            </a:r>
            <a:br>
              <a:rPr sz="4100"/>
            </a:b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 fontScale="99000"/>
          </a:bodyPr>
          <a:p>
            <a:pPr marL="46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Arial Bold"/>
              </a:rPr>
              <a:t>Processo crítico para criar novas soluçõ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6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6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mersão: conhecer o problema – entrevistas, dados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6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6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Análise e síntese:delineamento do problema a ser enfrentad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6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6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deação: criação de soluçõ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6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6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Prototipação: testage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6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6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Desenvovimento: implementaçã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8740800" y="6621120"/>
            <a:ext cx="19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b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25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464646"/>
                </a:solidFill>
                <a:latin typeface="ヒラギノ角ゴ ProN W3"/>
              </a:rPr>
              <a:t>	</a:t>
            </a:r>
            <a:r>
              <a:rPr b="0" lang="en-US" sz="4100" spc="-1" strike="noStrike">
                <a:solidFill>
                  <a:srgbClr val="3366ff"/>
                </a:solidFill>
                <a:latin typeface="Arial Bold"/>
              </a:rPr>
              <a:t>Sala de aula invertida</a:t>
            </a:r>
            <a:br>
              <a:rPr sz="4100"/>
            </a:b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7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Metodologia na qual os alunos estudam os temas em casa, antecipadamente, e trazem as dúvidas para discutir em sala, com os colegas e professo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8740800" y="6621120"/>
            <a:ext cx="19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b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26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464646"/>
                </a:solidFill>
                <a:latin typeface="ヒラギノ角ゴ ProN W3"/>
              </a:rPr>
              <a:t>	</a:t>
            </a:r>
            <a:r>
              <a:rPr b="0" lang="en-US" sz="4100" spc="-1" strike="noStrike">
                <a:solidFill>
                  <a:srgbClr val="3366ff"/>
                </a:solidFill>
                <a:latin typeface="Lucida Sans Unicode"/>
              </a:rPr>
              <a:t>Aquário</a:t>
            </a:r>
            <a:endParaRPr b="0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Metodologia de conversa para explorar temas complexos e urgent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7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Os participantes são divididos em dois grupos concêntricos; só o interno fala; o externo observa;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7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7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Uma cadeira do círculo interno fica vaga, podendo ser ocupada a qualquer momento por um participante do grupo externo que tenha uma contribuição a da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8740800" y="6621120"/>
            <a:ext cx="19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b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MS PGothic"/>
              </a:rPr>
              <a:t>27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06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b5395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2700" spc="-1" strike="noStrike">
                <a:solidFill>
                  <a:srgbClr val="0b5395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2700" spc="-1" strike="noStrike">
                <a:solidFill>
                  <a:srgbClr val="0b5395"/>
                </a:solidFill>
                <a:latin typeface="Arial Bold"/>
              </a:rPr>
              <a:t>comportamentai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– combinam 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ubdimensões tais como o comportamento, 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a cultura e a identidade, e também a ideia 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de vontade, ou seja, do engajamento e da 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motivação; desenvolvem-se nos espaços e 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momentos de interação e de trocas,  nos 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quais se formam as identidade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homas Durand) 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2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b5395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2700" spc="-1" strike="noStrike">
                <a:solidFill>
                  <a:srgbClr val="0b5395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5395"/>
                </a:solidFill>
                <a:latin typeface="Arial Bold"/>
                <a:ea typeface="Arial Bold"/>
              </a:rPr>
              <a:t>Como desenvolver?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8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Arial Bold"/>
              </a:rPr>
              <a:t>Desafios para o docen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 Bold"/>
              </a:rPr>
              <a:t>Motiva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 aula show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 descer de tirolesa na sala de aula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 a motivação resulta de uma necessidade, 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que atende a uma finalidad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3366ff"/>
                </a:solidFill>
                <a:latin typeface="Arial Bold"/>
              </a:rPr>
              <a:t>- foco nas práticas crític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2700" spc="-1" strike="noStrike">
                <a:solidFill>
                  <a:srgbClr val="3366ff"/>
                </a:solidFill>
                <a:latin typeface="Arial Bold"/>
              </a:rPr>
              <a:t>- metodologias ativas: teoria x prátic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4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25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 Bold"/>
              </a:rPr>
              <a:t>Desafios para o docen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 Bold"/>
              </a:rPr>
              <a:t>Tirar o aluno da contemplação: levá-lo ao protagonism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 não é ativismo, fazer por fazer (grupos sem 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entido, filmes sem discussão)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- criar situações significativas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motivadoras, para que o aluno, ao se 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relacionar com o conhecimento, faça novas </a:t>
            </a:r>
            <a:r>
              <a:rPr b="0" lang="en-US" sz="2700" spc="-1" strike="noStrike">
                <a:solidFill>
                  <a:srgbClr val="000000"/>
                </a:solidFill>
                <a:latin typeface="ヒラギノ角ゴ ProN W3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ínteses, descubra, crie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30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31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ヒラギノ角ゴ ProN W6"/>
                <a:ea typeface="ヒラギノ角ゴ ProN W6"/>
              </a:rPr>
              <a:t>                </a:t>
            </a:r>
            <a:r>
              <a:rPr b="0" lang="en-US" sz="2700" spc="-1" strike="noStrike">
                <a:solidFill>
                  <a:srgbClr val="227a8f"/>
                </a:solidFill>
                <a:latin typeface="ヒラギノ角ゴ ProN W6"/>
                <a:ea typeface="ヒラギノ角ゴ ProN W6"/>
              </a:rPr>
              <a:t>Metodologias ativ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36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37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7a8f"/>
                </a:solidFill>
                <a:latin typeface="Arial Bold"/>
              </a:rPr>
              <a:t>Por que usar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2700" spc="-1" strike="noStrike">
                <a:solidFill>
                  <a:srgbClr val="227a8f"/>
                </a:solidFill>
                <a:latin typeface="Arial Bold"/>
              </a:rPr>
              <a:t>Concepção de competência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pacidade potencial para atuar em situações não previstas,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 processos dinâmicos com base tecnologicamente sempre mais complex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07960" indent="-22860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partir do conhecimento da totalidade do processo de trabalho, incluindo sua relação com os processos sociais e econômicos mais amplos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reeform 1"/>
          <p:cNvSpPr/>
          <p:nvPr/>
        </p:nvSpPr>
        <p:spPr>
          <a:xfrm>
            <a:off x="498600" y="5943600"/>
            <a:ext cx="4940280" cy="92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"/>
                </a:moveTo>
                <a:lnTo>
                  <a:pt x="21600" y="21600"/>
                </a:lnTo>
                <a:lnTo>
                  <a:pt x="16039" y="21600"/>
                </a:lnTo>
                <a:lnTo>
                  <a:pt x="3" y="0"/>
                </a:lnTo>
              </a:path>
            </a:pathLst>
          </a:custGeom>
          <a:solidFill>
            <a:srgbClr val="9fcbd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42" name="Freeform 2"/>
          <p:cNvSpPr/>
          <p:nvPr/>
        </p:nvSpPr>
        <p:spPr>
          <a:xfrm>
            <a:off x="484200" y="5938920"/>
            <a:ext cx="3691080" cy="93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21490"/>
                </a:lnTo>
                <a:lnTo>
                  <a:pt x="17057" y="21600"/>
                </a:lnTo>
                <a:lnTo>
                  <a:pt x="46" y="14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1"/>
          <a:stretch/>
        </p:blipFill>
        <p:spPr>
          <a:xfrm>
            <a:off x="-12600" y="5784840"/>
            <a:ext cx="3414600" cy="10922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"/>
          <p:cNvPicPr/>
          <p:nvPr/>
        </p:nvPicPr>
        <p:blipFill>
          <a:blip r:embed="rId2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5"/>
          <p:cNvSpPr/>
          <p:nvPr/>
        </p:nvSpPr>
        <p:spPr>
          <a:xfrm>
            <a:off x="6934320" y="6578640"/>
            <a:ext cx="20574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  <a:ea typeface="MS PGothic"/>
              </a:rPr>
              <a:t>17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785880" y="401760"/>
            <a:ext cx="7772400" cy="645624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t">
            <a:normAutofit/>
          </a:bodyPr>
          <a:p>
            <a:pPr marL="65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7a8f"/>
                </a:solidFill>
                <a:latin typeface="Arial Bold"/>
              </a:rPr>
              <a:t>Por que usar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516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66ff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2700" spc="-1" strike="noStrike">
                <a:solidFill>
                  <a:srgbClr val="227a8f"/>
                </a:solidFill>
                <a:latin typeface="Arial Bold"/>
              </a:rPr>
              <a:t>Concepção de Aprendizagem</a:t>
            </a:r>
            <a:r>
              <a:rPr b="0" lang="en-US" sz="2400" spc="-1" strike="noStrike">
                <a:solidFill>
                  <a:srgbClr val="227a8f"/>
                </a:solidFill>
                <a:latin typeface="Arial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5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79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7936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 aluno aprende quando se relaciona com o conhecimento; protagonismo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79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7936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resultado de processos intencionais e sistematizados de construção de conhecimento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79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279360">
              <a:lnSpc>
                <a:spcPct val="90000"/>
              </a:lnSpc>
              <a:spcBef>
                <a:spcPts val="3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ão ocorre espontaneamente; precisa da mediação do professor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cacia</dc:creator>
  <dc:description/>
  <cp:keywords/>
  <dc:language>en-US</dc:language>
  <cp:lastModifiedBy>Acacia Zeneida Kuenzer</cp:lastModifiedBy>
  <dcterms:modified xsi:type="dcterms:W3CDTF">2019-09-06T02:01:10Z</dcterms:modified>
  <cp:revision>5</cp:revision>
  <dc:subject/>
  <dc:title>EDUCAÇÃO PROFISSIONAL, DESENVOLVIMENTO E INCLUSÃO SOCIAL</dc:title>
</cp:coreProperties>
</file>